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789A-86BC-406B-8BAD-1AF0CC86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57AA-D632-49B7-9218-5598C35B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549-353F-424F-A058-01E27DA6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204-3E14-4D9E-B74C-48016016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19AE-A3B7-4907-A1FD-E63010FF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911-C9FF-4C9F-BDBE-8154837D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5E49-55ED-443D-8726-9790413D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A438-4117-4970-BC59-59371586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11C-A5FC-4F2D-B837-EDBB3AB3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B93-BD50-42E3-8D60-E87E1FE7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CAAF-C790-4F18-B07B-219D37F0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4DC5-07E0-4453-BDD0-F99E9291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809C-1E7B-4C98-A713-0B2C5AE97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wyoming.s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enchantedlearning.com/usa/states/wyoming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flags/wyoming/wyomingflag.shtml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enchantedlearning.com/usa/states/wyoming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jewelrymall.com/cgibin/xlinker.cgi?loc=120&amp;lf=120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jewelrymall.com/stones/jade.html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ostcardsfrom.com/t1/990803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fermi.jhuapl.edu/states/maps1/wy.gif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62920" y="5029200"/>
            <a:ext cx="1828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ven P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9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8333" t="9376" r="21878" b="9376"/>
          <a:stretch/>
        </p:blipFill>
        <p:spPr>
          <a:xfrm>
            <a:off x="0" y="0"/>
            <a:ext cx="9144000" cy="4919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5105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in Word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146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19520" y="5029200"/>
            <a:ext cx="2743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waii state s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/10/12, 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ol: Cheye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: 453,588 in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ed the Union: July 10th, 18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: 4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to: Equa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: Equality State/Cowbo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er: Indian Plant Brush (castilleja linariaefo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: Western Meadowl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g: Wyo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Behind Name: large prairie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Interesting Fac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ate that gave the right for women to v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de gemstones are found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own governed entirely by wo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520"/>
            <a:ext cx="6638760" cy="4910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5181480"/>
            <a:ext cx="6019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y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1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wyom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057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map of Wyom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74760"/>
            <a:ext cx="5648400" cy="3773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 rot="10800000">
            <a:off x="457200" y="4495320"/>
            <a:ext cx="71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yoming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21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wyom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1905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Wyoming state fl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33520"/>
            <a:ext cx="4876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welrymall.c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ade Jewel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jewelrymall.com/stones/jad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590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type of gem that could be found in Wyom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All images Copyright © 1997 - 2000 WriteLine. All Rights Reserved. Green River"/>
          <p:cNvPicPr/>
          <p:nvPr/>
        </p:nvPicPr>
        <p:blipFill>
          <a:blip r:embed="rId1"/>
          <a:stretch/>
        </p:blipFill>
        <p:spPr>
          <a:xfrm>
            <a:off x="0" y="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5334120"/>
            <a:ext cx="4495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from.c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een River, Wy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9080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2578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ostcard with a (beautiful) view on the c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20" y="-360"/>
            <a:ext cx="61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rmi.jhuapl.edu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yoming Shaded Relief 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201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ermi.jhuapl.edu/states/maps1/wy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30492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shaded relief map of the state Wyom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660033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4343400" cy="4201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5254560"/>
            <a:ext cx="37335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learning.c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y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2012, http://www.enchantedlearning.com/usa/states/wyom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15228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Wyoming’s state bird—the Western Meadowl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33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Wyoming State Flower: Indian Paintbrush"/>
          <p:cNvPicPr/>
          <p:nvPr/>
        </p:nvPicPr>
        <p:blipFill>
          <a:blip r:embed="rId1"/>
          <a:stretch/>
        </p:blipFill>
        <p:spPr>
          <a:xfrm>
            <a:off x="1676520" y="533520"/>
            <a:ext cx="4324320" cy="4324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5181480"/>
            <a:ext cx="5562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state.c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yoming State Fl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2012, http://www.netstate.com/states/symb/flowers/wy_indian_paintbrush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1219320"/>
            <a:ext cx="18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Wyoming’s state flower--the Indian Paintbru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44Z</dcterms:created>
  <dc:creator>install</dc:creator>
  <dc:description/>
  <dc:language>en-US</dc:language>
  <cp:lastModifiedBy>install</cp:lastModifiedBy>
  <dcterms:modified xsi:type="dcterms:W3CDTF">2012-04-16T13:05:18Z</dcterms:modified>
  <cp:revision>10</cp:revision>
  <dc:subject/>
  <dc:title>Slide 1</dc:title>
</cp:coreProperties>
</file>